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F8B-9A97-4C77-8969-D9FB833A5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323-B6B5-4002-AB4F-D0265699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DE9-D813-4F13-AD1A-0AF3F5B714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5E31-81D0-4E35-B477-AF545B6277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 of access to electricity women re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nding less time walking to access water, as electricty has introduced electric water pump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light in the house allows women to engage in productive activities in the evening, such as weaving, bamboo bas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can read and do their home work in the ev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ing more comfortable and and safe in general – some even enjoy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re are several entry points to addressing gender issues in energy proje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dressing gender issues requires a slightly different focus and approach - but it is not “rocket scien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mmitment from the WB team and counterparts to “go the extra mile” is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ditional resources are needed, but a small amount of money can go a long way -  GAP funds played a catalytic 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 the end, addressing gender issues constitutes a smart way of making a project more effective and its impact more inclus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60C-25C1-42D1-AC68-8649B269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grant for all sizes lead to higher % of grant for smaller systems compared to larg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17C-0FB3-4467-9F43-8FBBCC472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460-B891-4DB7-A47E-892684E9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866-58B2-4BDD-B1B3-BCD1B008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D0E-E3B2-4A71-9CAE-5A4F8AFD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362-D869-42B3-88A0-2F6E8E3A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53A-8E0A-46E8-A182-CF4BB1B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B3E-8658-47DA-AB08-2FE6EC10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857-D0D9-45AE-B87D-9E5F2B3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D77-D85A-4B9D-B25C-FFC2860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1EE-9220-45A0-99BC-D33B647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646-56B0-4F9D-8B65-AE01B2D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7C3-6CBF-43BD-A563-DD301BC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039-152B-4760-B243-78A0B15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531-A04F-4F57-9796-7C52389A28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youtube.com/watch?v=h-DY3T_1RPI&amp;feature=player_embedded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Calibri"/>
              </a:rPr>
              <a:t>Lessons and Experience</a:t>
            </a:r>
            <a:br>
              <a:rPr sz="2200"/>
            </a:b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Rural Electrification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in Bangladesh, Laos and Cambo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F03E-6106-4B21-AE3A-A016269FC3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914400" y="4648320"/>
            <a:ext cx="7238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ie Ta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d Energy Special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uth Asia Region, The World Ban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y 31 – June 1, 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495680" y="2394000"/>
            <a:ext cx="4648320" cy="26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wb221704\Desktop\WB Notebook\COUNTRY Program\EAP\LAOS\Lao - ASTAE - RE Experience\RE Impacts\Kids Studying and Income Gen.JPG"/>
          <p:cNvPicPr/>
          <p:nvPr/>
        </p:nvPicPr>
        <p:blipFill>
          <a:blip r:embed="rId3"/>
          <a:stretch/>
        </p:blipFill>
        <p:spPr>
          <a:xfrm>
            <a:off x="0" y="2395440"/>
            <a:ext cx="4495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ransition to “Commercial” Finan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COL refinancing % is being reduced from 80% to 6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ayment terms from POs to IDCOL are becoming more “commercial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arge POs- 9% interest rate, 5 year repayment and a 6-month grac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maller POs- 6% interest rate, 7 year repayment, 1 year grac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ECE-26D1-46DD-AEB1-99998A4BB5D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Critical 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phic concentration of rur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able business model for providing S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network of N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acceptance of NGO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ion and Monitoring by ID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72C-88FD-4F2E-AF09-DC5A749465D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7920" y="16002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638-0A80-4B1D-99C9-E2D134AD56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3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A64B-2838-44D8-A9DE-54B6193A61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2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2666880" y="1371600"/>
            <a:ext cx="6400800" cy="5181480"/>
            <a:chOff x="2666880" y="1371600"/>
            <a:chExt cx="6400800" cy="5181480"/>
          </a:xfrm>
        </p:grpSpPr>
        <p:pic>
          <p:nvPicPr>
            <p:cNvPr id="213" name="Chart 15" descr=""/>
            <p:cNvPicPr/>
            <p:nvPr/>
          </p:nvPicPr>
          <p:blipFill>
            <a:blip r:embed="rId2"/>
            <a:stretch/>
          </p:blipFill>
          <p:spPr>
            <a:xfrm>
              <a:off x="2666880" y="1371600"/>
              <a:ext cx="63432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13"/>
            <p:cNvSpPr/>
            <p:nvPr/>
          </p:nvSpPr>
          <p:spPr>
            <a:xfrm>
              <a:off x="3126960" y="4792680"/>
              <a:ext cx="76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8358840" y="1544400"/>
              <a:ext cx="70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4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3"/>
            <p:cNvSpPr/>
            <p:nvPr/>
          </p:nvSpPr>
          <p:spPr>
            <a:xfrm>
              <a:off x="4179600" y="1497960"/>
              <a:ext cx="334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cess to Electri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457200" y="2322000"/>
            <a:ext cx="1905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5 million, about 1.2 million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del of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public utility-driven grid extens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pand access to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ong Government commitment and targets for rural elect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 by 2010; 80% by 2015 and 90% by 2020 (set in 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icity du Laos (EdL) established strong capacity in implementation of rural elect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 since mid 1990s when the Bank started the first rural electrification proje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cy in system planning, procurement, installation and commiss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rehensive system loss reduction program to reduce distribution system losses thus cost of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about 20% in 2005 to 10% in 2010, along with the fast expansion of the distribution system into rur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D3C-F084-4916-B401-D98E2A025A4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atic approach in tariff reform to ensure cost recovery and a profit margin for Ed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-subsidies among consumer categories to ensure (i) affordability of rural housheolds; and (ii) weighted average tariff cover the weighted cost of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ong Government support to Electricity du Laos (EdL), a public utility company, to expand access to electricity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support to EdL when tariff did not cover the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d strong support of tariff reform toward cost recovery and a profit mar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ssional terms of loans to EdL for rural electrification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 program for connecting the po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Calibri"/>
              </a:rPr>
              <a:t>Power to the Po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20-40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ouseholds in the villages electrified were not connected to the grid since they could not afford the upfront-connection cost (about $80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676-9564-4AE9-9D58-6755D7BAB18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3"/>
          <p:cNvSpPr/>
          <p:nvPr/>
        </p:nvSpPr>
        <p:spPr>
          <a:xfrm>
            <a:off x="804960" y="1297080"/>
            <a:ext cx="7767720" cy="4846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4600" y="1371600"/>
            <a:ext cx="596412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Targeting the poor</a:t>
            </a:r>
            <a:br>
              <a:rPr sz="20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1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interest-free credit</a:t>
            </a:r>
            <a:br>
              <a:rPr sz="16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2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households in village already electrified</a:t>
            </a:r>
            <a:br>
              <a:rPr sz="16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3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household monthly budget neu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1096920" y="4400640"/>
            <a:ext cx="4648320" cy="1600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735600" y="2286000"/>
            <a:ext cx="13557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  <a:ea typeface="MS PGothic"/>
              </a:rPr>
              <a:t>EdL, IDA, GEF G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143240" y="3071880"/>
            <a:ext cx="1908360" cy="580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L  P2P Revolving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14280" y="3071880"/>
            <a:ext cx="20574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EdL Operational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748560" y="5027760"/>
            <a:ext cx="1752480" cy="824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Contractor for in-house w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257480" y="4552920"/>
            <a:ext cx="261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Monthly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475000" y="4905360"/>
            <a:ext cx="139356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2P Re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1257480" y="4905360"/>
            <a:ext cx="12078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Electricity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2143080" y="557532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or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4576680" y="5048280"/>
            <a:ext cx="1067040" cy="380880"/>
          </a:xfrm>
          <a:custGeom>
            <a:avLst/>
            <a:gdLst>
              <a:gd name="textAreaLeft" fmla="*/ 266760 w 1067040"/>
              <a:gd name="textAreaRight" fmla="*/ 800280 w 106704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4754520" y="5072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$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7453440" y="29289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$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452600" y="4052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+ $2.5/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227160" y="214200"/>
            <a:ext cx="8715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ower to the Poor (P2P) – Revolving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877000" y="55688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2929"/>
                </a:solidFill>
                <a:latin typeface="Arial"/>
              </a:rPr>
              <a:t>Wi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66"/>
          <p:cNvCxnSpPr/>
          <p:nvPr/>
        </p:nvCxnSpPr>
        <p:spPr>
          <a:xfrm flipH="1" flipV="1">
            <a:off x="6000120" y="3077640"/>
            <a:ext cx="129276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5" name="Straight Arrow Connector 69"/>
          <p:cNvCxnSpPr>
            <a:stCxn id="231" idx="2"/>
            <a:endCxn id="239" idx="0"/>
          </p:cNvCxnSpPr>
          <p:nvPr/>
        </p:nvCxnSpPr>
        <p:spPr>
          <a:xfrm flipH="1">
            <a:off x="5096880" y="3655800"/>
            <a:ext cx="1080" cy="141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6" name="Straight Arrow Connector 73"/>
          <p:cNvCxnSpPr/>
          <p:nvPr/>
        </p:nvCxnSpPr>
        <p:spPr>
          <a:xfrm flipV="1">
            <a:off x="5500440" y="5200200"/>
            <a:ext cx="123876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7" name="Straight Connector 75"/>
          <p:cNvSpPr/>
          <p:nvPr/>
        </p:nvSpPr>
        <p:spPr>
          <a:xfrm flipV="1">
            <a:off x="7358040" y="3642840"/>
            <a:ext cx="0" cy="140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77"/>
          <p:cNvCxnSpPr/>
          <p:nvPr/>
        </p:nvCxnSpPr>
        <p:spPr>
          <a:xfrm flipH="1">
            <a:off x="6050880" y="3641760"/>
            <a:ext cx="130716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9" name="Straight Connector 88"/>
          <p:cNvSpPr/>
          <p:nvPr/>
        </p:nvSpPr>
        <p:spPr>
          <a:xfrm>
            <a:off x="6072120" y="3357720"/>
            <a:ext cx="1785960" cy="14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92"/>
          <p:cNvCxnSpPr/>
          <p:nvPr/>
        </p:nvCxnSpPr>
        <p:spPr>
          <a:xfrm flipH="1">
            <a:off x="7857360" y="3357360"/>
            <a:ext cx="1080" cy="171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1" name="Straight Connector 95"/>
          <p:cNvSpPr/>
          <p:nvPr/>
        </p:nvSpPr>
        <p:spPr>
          <a:xfrm>
            <a:off x="7292880" y="2805120"/>
            <a:ext cx="0" cy="2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98"/>
          <p:cNvCxnSpPr/>
          <p:nvPr/>
        </p:nvCxnSpPr>
        <p:spPr>
          <a:xfrm flipH="1" flipV="1">
            <a:off x="5744520" y="5803560"/>
            <a:ext cx="991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3" name="Straight Arrow Connector 107"/>
          <p:cNvCxnSpPr/>
          <p:nvPr/>
        </p:nvCxnSpPr>
        <p:spPr>
          <a:xfrm flipV="1">
            <a:off x="2356200" y="3714480"/>
            <a:ext cx="1080" cy="838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4" name="Text Box 33"/>
          <p:cNvSpPr/>
          <p:nvPr/>
        </p:nvSpPr>
        <p:spPr>
          <a:xfrm>
            <a:off x="1595520" y="38386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$1.5/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117"/>
          <p:cNvCxnSpPr>
            <a:stCxn id="232" idx="3"/>
            <a:endCxn id="231" idx="1"/>
          </p:cNvCxnSpPr>
          <p:nvPr/>
        </p:nvCxnSpPr>
        <p:spPr>
          <a:xfrm>
            <a:off x="3271320" y="3363480"/>
            <a:ext cx="8722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6" name="Text Box 33"/>
          <p:cNvSpPr/>
          <p:nvPr/>
        </p:nvSpPr>
        <p:spPr>
          <a:xfrm>
            <a:off x="3395520" y="3071880"/>
            <a:ext cx="7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$2.5 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9"/>
          <p:cNvSpPr/>
          <p:nvPr/>
        </p:nvSpPr>
        <p:spPr>
          <a:xfrm>
            <a:off x="7053120" y="4052880"/>
            <a:ext cx="609840" cy="152280"/>
          </a:xfrm>
          <a:custGeom>
            <a:avLst/>
            <a:gdLst>
              <a:gd name="textAreaLeft" fmla="*/ 152280 w 609840"/>
              <a:gd name="textAreaRight" fmla="*/ 457560 w 609840"/>
              <a:gd name="textAreaTop" fmla="*/ 190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6"/>
          <p:cNvSpPr/>
          <p:nvPr/>
        </p:nvSpPr>
        <p:spPr>
          <a:xfrm>
            <a:off x="4792680" y="3957480"/>
            <a:ext cx="609480" cy="152640"/>
          </a:xfrm>
          <a:custGeom>
            <a:avLst/>
            <a:gdLst>
              <a:gd name="textAreaLeft" fmla="*/ 152280 w 609480"/>
              <a:gd name="textAreaRight" fmla="*/ 457200 w 609480"/>
              <a:gd name="textAreaTop" fmla="*/ 1908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8"/>
          <p:cNvSpPr/>
          <p:nvPr/>
        </p:nvSpPr>
        <p:spPr>
          <a:xfrm rot="5400000">
            <a:off x="5876640" y="5097600"/>
            <a:ext cx="609480" cy="1522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90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6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5270400" y="1413000"/>
            <a:ext cx="3627360" cy="2720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Power to the Poor (P2P) Pil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304920" y="1413000"/>
            <a:ext cx="39416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80000"/>
              </a:lnSpc>
              <a:spcAft>
                <a:spcPts val="1199"/>
              </a:spcAft>
              <a:buClr>
                <a:srgbClr val="ff008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Example:  Phosaad  V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Grid to village in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270 households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d3481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4817"/>
                </a:solidFill>
                <a:latin typeface="Arial Narrow"/>
                <a:ea typeface="MS PGothic"/>
              </a:rPr>
              <a:t>72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not connected over the past </a:t>
            </a: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MS PGothic"/>
              </a:rPr>
              <a:t>6 years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were all connected to the grid in about </a:t>
            </a: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MS PGothic"/>
              </a:rPr>
              <a:t>one month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(Feb-Mar 2009) through the P2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4776840" y="3573360"/>
            <a:ext cx="3627360" cy="2721240"/>
          </a:xfrm>
          <a:prstGeom prst="rect">
            <a:avLst/>
          </a:prstGeom>
          <a:ln w="0">
            <a:noFill/>
          </a:ln>
        </p:spPr>
      </p:pic>
      <p:sp>
        <p:nvSpPr>
          <p:cNvPr id="267" name="Content Placeholder 2"/>
          <p:cNvSpPr/>
          <p:nvPr/>
        </p:nvSpPr>
        <p:spPr>
          <a:xfrm>
            <a:off x="558720" y="3933720"/>
            <a:ext cx="39420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7800" indent="-29520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Youtube Vid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ao PDR: Electricity for All – A Gend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http://www.youtube.com/watch?v=h-DY3T_1RPI&amp;feature=player_embe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7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982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</a:rPr>
              <a:t>Results of P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53600"/>
            <a:ext cx="81532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gnificant result of the P2P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out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25,000 poor household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2% of the population) gained access to grid electricity through the P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the overall connection rate in P2P villages from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79% to 9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2P Program in a gender sensitive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out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1,300 female-headed household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ined access to grid electr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on rate increased in female-headed households from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67% to 9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259-68BC-46E7-A6E8-CDE99012A0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5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mbodia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del of expanding access to electricity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led by private sec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bout the same access rate as Laos in mid 1990s, but now still less than 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8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7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Rural Electrification Enterprises (REEs) have exclusive right in electricity service provision in licensed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about 180 REEs licensed for rural elect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54% of the population are in REEs’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weak technical and financial capacity of REEs,  resulting in insufficient investments in generation and distribution, very low efficiency, and very high cost of electricity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high tariff, about $0.5-1.0/kW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low connection rate, about3-5% in the REEs’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DCD-1BC4-4C48-94D1-A2A477A0416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Rural Elect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218960"/>
            <a:ext cx="832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glade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olar Home System (SHS) Program for lig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os and Cambodi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FDA-EA20-4D48-85BD-69D21320AD4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mbodia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regul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the licensing of 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ulating REEs’ retail tariff in the principle of “cost plu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tariffs for different 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power utility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tion, transmission , plus distribution services in urban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 is expanding MV network to REEs’ areas for bulk sales – can reduce cost of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proactive in expanding distribution networks to expand grid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anc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 in tariff setting 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 of corruption – REEs are running profitabl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4B6-5471-48C7-98AF-09196DCB6F6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Critical Factors of Success vs no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government commitment and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fficient model with public utility-driven grid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fficiency in implementation of rural electrification projects due to strong commitment and capacity of E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ation of lowering cost of services and increasing tariff to ensure financial sustainability of electricity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707D-BF0C-4A19-ACA7-76A7C647B47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47920" y="16002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8B9-0773-499E-A6D9-4329F88B7B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3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Bangladesh - SHS Installation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F72-2409-42A8-AB02-349AE0E7340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1435" t="13857" r="2565" b="9918"/>
          <a:stretch/>
        </p:blipFill>
        <p:spPr>
          <a:xfrm>
            <a:off x="98280" y="2133720"/>
            <a:ext cx="866484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048120" y="1523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brated install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llion SHS in earl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Bangladesh SH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iable business model for providing SHS for access to electricity for meeting basic lighting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the Infrastructure Development Company Limited (IDCOL) – Government owned Compa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rted in January 2003 with IDA and GEF funds.  Target was 50,000 systems by 2008, but achieved by August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ter on jointed by other donors:  including ADB, kfW, GiZ, IDB, GPOBA, and JICA just star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ation rate now is over 50,000 SHS/mon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xt Target - another 2 million b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D228-65F6-4BDD-8885-4878E5AD3DA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Ownership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ner Organizations (POs), mostly NGOs install the SHSs under a micro-credit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pay down payment (10-15%) of the system cost net of grant.  The rest is paid under micro-finance (2-3 years repayment at interest rate of 12-16% per y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cro-finance extended by the POs are refinanced by IDCOL (5-7 years at 6-9% interest rates) allowing POs to install mo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F40-E11A-4FB9-98AA-A01E8BC96B7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66"/>
          <p:cNvSpPr/>
          <p:nvPr/>
        </p:nvSpPr>
        <p:spPr>
          <a:xfrm>
            <a:off x="0" y="598320"/>
            <a:ext cx="91440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91"/>
          <p:cNvSpPr/>
          <p:nvPr/>
        </p:nvSpPr>
        <p:spPr>
          <a:xfrm>
            <a:off x="7255080" y="6918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96"/>
          <p:cNvSpPr/>
          <p:nvPr/>
        </p:nvSpPr>
        <p:spPr>
          <a:xfrm>
            <a:off x="4120200" y="2728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98"/>
          <p:cNvSpPr/>
          <p:nvPr/>
        </p:nvSpPr>
        <p:spPr>
          <a:xfrm>
            <a:off x="3780360" y="6380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01"/>
          <p:cNvSpPr/>
          <p:nvPr/>
        </p:nvSpPr>
        <p:spPr>
          <a:xfrm>
            <a:off x="4120200" y="67057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02"/>
          <p:cNvSpPr/>
          <p:nvPr/>
        </p:nvSpPr>
        <p:spPr>
          <a:xfrm>
            <a:off x="3408840" y="6877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04"/>
          <p:cNvSpPr/>
          <p:nvPr/>
        </p:nvSpPr>
        <p:spPr>
          <a:xfrm>
            <a:off x="6213960" y="6380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08"/>
          <p:cNvSpPr/>
          <p:nvPr/>
        </p:nvSpPr>
        <p:spPr>
          <a:xfrm>
            <a:off x="3408840" y="4335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10"/>
          <p:cNvSpPr/>
          <p:nvPr/>
        </p:nvSpPr>
        <p:spPr>
          <a:xfrm>
            <a:off x="4060440" y="4494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12"/>
          <p:cNvSpPr/>
          <p:nvPr/>
        </p:nvSpPr>
        <p:spPr>
          <a:xfrm>
            <a:off x="6269400" y="4335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15"/>
          <p:cNvSpPr/>
          <p:nvPr/>
        </p:nvSpPr>
        <p:spPr>
          <a:xfrm>
            <a:off x="6841800" y="4494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17"/>
          <p:cNvSpPr/>
          <p:nvPr/>
        </p:nvSpPr>
        <p:spPr>
          <a:xfrm>
            <a:off x="6269400" y="2390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19"/>
          <p:cNvSpPr/>
          <p:nvPr/>
        </p:nvSpPr>
        <p:spPr>
          <a:xfrm>
            <a:off x="6990840" y="2549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26"/>
          <p:cNvSpPr/>
          <p:nvPr/>
        </p:nvSpPr>
        <p:spPr>
          <a:xfrm>
            <a:off x="4673520" y="2708280"/>
            <a:ext cx="92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28"/>
          <p:cNvSpPr/>
          <p:nvPr/>
        </p:nvSpPr>
        <p:spPr>
          <a:xfrm>
            <a:off x="5540040" y="274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31"/>
          <p:cNvSpPr/>
          <p:nvPr/>
        </p:nvSpPr>
        <p:spPr>
          <a:xfrm>
            <a:off x="5600520" y="23781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38"/>
          <p:cNvSpPr/>
          <p:nvPr/>
        </p:nvSpPr>
        <p:spPr>
          <a:xfrm>
            <a:off x="5772240" y="3363840"/>
            <a:ext cx="722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41"/>
          <p:cNvSpPr/>
          <p:nvPr/>
        </p:nvSpPr>
        <p:spPr>
          <a:xfrm>
            <a:off x="6505200" y="3533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52"/>
          <p:cNvSpPr/>
          <p:nvPr/>
        </p:nvSpPr>
        <p:spPr>
          <a:xfrm>
            <a:off x="6489360" y="5665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59"/>
          <p:cNvSpPr/>
          <p:nvPr/>
        </p:nvSpPr>
        <p:spPr>
          <a:xfrm>
            <a:off x="4478400" y="4660920"/>
            <a:ext cx="1434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62"/>
          <p:cNvSpPr/>
          <p:nvPr/>
        </p:nvSpPr>
        <p:spPr>
          <a:xfrm>
            <a:off x="5847840" y="4702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65"/>
          <p:cNvSpPr/>
          <p:nvPr/>
        </p:nvSpPr>
        <p:spPr>
          <a:xfrm>
            <a:off x="5905080" y="43070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77"/>
          <p:cNvSpPr/>
          <p:nvPr/>
        </p:nvSpPr>
        <p:spPr>
          <a:xfrm>
            <a:off x="4446360" y="56959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78"/>
          <p:cNvSpPr/>
          <p:nvPr/>
        </p:nvSpPr>
        <p:spPr>
          <a:xfrm>
            <a:off x="4602240" y="5878440"/>
            <a:ext cx="565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81"/>
          <p:cNvSpPr/>
          <p:nvPr/>
        </p:nvSpPr>
        <p:spPr>
          <a:xfrm>
            <a:off x="5263920" y="6008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82"/>
          <p:cNvSpPr/>
          <p:nvPr/>
        </p:nvSpPr>
        <p:spPr>
          <a:xfrm>
            <a:off x="6694560" y="3379680"/>
            <a:ext cx="72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85"/>
          <p:cNvSpPr/>
          <p:nvPr/>
        </p:nvSpPr>
        <p:spPr>
          <a:xfrm>
            <a:off x="7259400" y="3551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91"/>
          <p:cNvSpPr/>
          <p:nvPr/>
        </p:nvSpPr>
        <p:spPr>
          <a:xfrm>
            <a:off x="7327440" y="5675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16"/>
          <p:cNvGrpSpPr/>
          <p:nvPr/>
        </p:nvGrpSpPr>
        <p:grpSpPr>
          <a:xfrm>
            <a:off x="2743200" y="2403360"/>
            <a:ext cx="2796840" cy="761760"/>
            <a:chOff x="2743200" y="2403360"/>
            <a:chExt cx="2796840" cy="761760"/>
          </a:xfrm>
        </p:grpSpPr>
        <p:grpSp>
          <p:nvGrpSpPr>
            <p:cNvPr id="100" name="Group 1134"/>
            <p:cNvGrpSpPr/>
            <p:nvPr/>
          </p:nvGrpSpPr>
          <p:grpSpPr>
            <a:xfrm>
              <a:off x="4083840" y="2410560"/>
              <a:ext cx="80280" cy="754560"/>
              <a:chOff x="4083840" y="2410560"/>
              <a:chExt cx="80280" cy="754560"/>
            </a:xfrm>
          </p:grpSpPr>
          <p:sp>
            <p:nvSpPr>
              <p:cNvPr id="101" name="Line 1132"/>
              <p:cNvSpPr/>
              <p:nvPr/>
            </p:nvSpPr>
            <p:spPr>
              <a:xfrm>
                <a:off x="4113720" y="2410560"/>
                <a:ext cx="7200" cy="696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133"/>
              <p:cNvSpPr/>
              <p:nvPr/>
            </p:nvSpPr>
            <p:spPr>
              <a:xfrm>
                <a:off x="4083840" y="3101040"/>
                <a:ext cx="80280" cy="64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3" h="61">
                    <a:moveTo>
                      <a:pt x="0" y="0"/>
                    </a:moveTo>
                    <a:lnTo>
                      <a:pt x="28" y="61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137"/>
            <p:cNvGrpSpPr/>
            <p:nvPr/>
          </p:nvGrpSpPr>
          <p:grpSpPr>
            <a:xfrm>
              <a:off x="4237200" y="2403360"/>
              <a:ext cx="72360" cy="761760"/>
              <a:chOff x="4237200" y="2403360"/>
              <a:chExt cx="72360" cy="761760"/>
            </a:xfrm>
          </p:grpSpPr>
          <p:sp>
            <p:nvSpPr>
              <p:cNvPr id="104" name="Line 1135"/>
              <p:cNvSpPr/>
              <p:nvPr/>
            </p:nvSpPr>
            <p:spPr>
              <a:xfrm>
                <a:off x="4271040" y="245880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36"/>
              <p:cNvSpPr/>
              <p:nvPr/>
            </p:nvSpPr>
            <p:spPr>
              <a:xfrm>
                <a:off x="4237200" y="2403360"/>
                <a:ext cx="72360" cy="64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3" h="60">
                    <a:moveTo>
                      <a:pt x="53" y="60"/>
                    </a:moveTo>
                    <a:lnTo>
                      <a:pt x="25" y="0"/>
                    </a:lnTo>
                    <a:lnTo>
                      <a:pt x="0" y="60"/>
                    </a:lnTo>
                    <a:lnTo>
                      <a:pt x="5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40"/>
            <p:cNvSpPr/>
            <p:nvPr/>
          </p:nvSpPr>
          <p:spPr>
            <a:xfrm>
              <a:off x="2743200" y="2472480"/>
              <a:ext cx="1348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Supply Equi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84"/>
            <p:cNvSpPr/>
            <p:nvPr/>
          </p:nvSpPr>
          <p:spPr>
            <a:xfrm>
              <a:off x="4238640" y="2472480"/>
              <a:ext cx="13014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Pay for Equi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59"/>
          <p:cNvGrpSpPr/>
          <p:nvPr/>
        </p:nvGrpSpPr>
        <p:grpSpPr>
          <a:xfrm>
            <a:off x="4952880" y="3164040"/>
            <a:ext cx="4114800" cy="838080"/>
            <a:chOff x="4952880" y="3164040"/>
            <a:chExt cx="4114800" cy="838080"/>
          </a:xfrm>
        </p:grpSpPr>
        <p:grpSp>
          <p:nvGrpSpPr>
            <p:cNvPr id="109" name="Group 1240"/>
            <p:cNvGrpSpPr/>
            <p:nvPr/>
          </p:nvGrpSpPr>
          <p:grpSpPr>
            <a:xfrm>
              <a:off x="4952880" y="3176640"/>
              <a:ext cx="2371320" cy="752040"/>
              <a:chOff x="4952880" y="3176640"/>
              <a:chExt cx="2371320" cy="752040"/>
            </a:xfrm>
          </p:grpSpPr>
          <p:grpSp>
            <p:nvGrpSpPr>
              <p:cNvPr id="110" name="Group 1155"/>
              <p:cNvGrpSpPr/>
              <p:nvPr/>
            </p:nvGrpSpPr>
            <p:grpSpPr>
              <a:xfrm>
                <a:off x="5018040" y="3598560"/>
                <a:ext cx="2300040" cy="75600"/>
                <a:chOff x="5018040" y="3598560"/>
                <a:chExt cx="2300040" cy="75600"/>
              </a:xfrm>
            </p:grpSpPr>
            <p:sp>
              <p:nvSpPr>
                <p:cNvPr id="111" name="Line 1153"/>
                <p:cNvSpPr/>
                <p:nvPr/>
              </p:nvSpPr>
              <p:spPr>
                <a:xfrm>
                  <a:off x="5018040" y="3635280"/>
                  <a:ext cx="21862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1154"/>
                <p:cNvSpPr/>
                <p:nvPr/>
              </p:nvSpPr>
              <p:spPr>
                <a:xfrm>
                  <a:off x="7193160" y="3598560"/>
                  <a:ext cx="124920" cy="7560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56" h="56">
                      <a:moveTo>
                        <a:pt x="0" y="56"/>
                      </a:moveTo>
                      <a:lnTo>
                        <a:pt x="56" y="29"/>
                      </a:lnTo>
                      <a:lnTo>
                        <a:pt x="0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1158"/>
              <p:cNvGrpSpPr/>
              <p:nvPr/>
            </p:nvGrpSpPr>
            <p:grpSpPr>
              <a:xfrm>
                <a:off x="4952880" y="3447720"/>
                <a:ext cx="2371320" cy="97560"/>
                <a:chOff x="4952880" y="3447720"/>
                <a:chExt cx="2371320" cy="97560"/>
              </a:xfrm>
            </p:grpSpPr>
            <p:sp>
              <p:nvSpPr>
                <p:cNvPr id="114" name="Line 1156"/>
                <p:cNvSpPr/>
                <p:nvPr/>
              </p:nvSpPr>
              <p:spPr>
                <a:xfrm>
                  <a:off x="5068080" y="3493800"/>
                  <a:ext cx="225612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157"/>
                <p:cNvSpPr/>
                <p:nvPr/>
              </p:nvSpPr>
              <p:spPr>
                <a:xfrm>
                  <a:off x="4952880" y="3447720"/>
                  <a:ext cx="133560" cy="97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58" h="55">
                      <a:moveTo>
                        <a:pt x="58" y="0"/>
                      </a:moveTo>
                      <a:lnTo>
                        <a:pt x="0" y="26"/>
                      </a:lnTo>
                      <a:lnTo>
                        <a:pt x="58" y="55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1161"/>
              <p:cNvSpPr/>
              <p:nvPr/>
            </p:nvSpPr>
            <p:spPr>
              <a:xfrm>
                <a:off x="4980240" y="3654000"/>
                <a:ext cx="2076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s grant &amp; lo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64"/>
              <p:cNvSpPr/>
              <p:nvPr/>
            </p:nvSpPr>
            <p:spPr>
              <a:xfrm>
                <a:off x="4952880" y="3176640"/>
                <a:ext cx="2367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 grant &amp; lo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198"/>
            <p:cNvGrpSpPr/>
            <p:nvPr/>
          </p:nvGrpSpPr>
          <p:grpSpPr>
            <a:xfrm>
              <a:off x="7331040" y="3164040"/>
              <a:ext cx="1736640" cy="838080"/>
              <a:chOff x="7331040" y="3164040"/>
              <a:chExt cx="1736640" cy="838080"/>
            </a:xfrm>
          </p:grpSpPr>
          <p:sp>
            <p:nvSpPr>
              <p:cNvPr id="119" name="Oval 1107"/>
              <p:cNvSpPr/>
              <p:nvPr/>
            </p:nvSpPr>
            <p:spPr>
              <a:xfrm>
                <a:off x="7331040" y="3164040"/>
                <a:ext cx="1736640" cy="8380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109"/>
              <p:cNvSpPr/>
              <p:nvPr/>
            </p:nvSpPr>
            <p:spPr>
              <a:xfrm>
                <a:off x="7584480" y="3276720"/>
                <a:ext cx="1242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IDCOL Fu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1257"/>
          <p:cNvGrpSpPr/>
          <p:nvPr/>
        </p:nvGrpSpPr>
        <p:grpSpPr>
          <a:xfrm>
            <a:off x="3098880" y="1336680"/>
            <a:ext cx="5994360" cy="1066680"/>
            <a:chOff x="3098880" y="1336680"/>
            <a:chExt cx="5994360" cy="1066680"/>
          </a:xfrm>
        </p:grpSpPr>
        <p:grpSp>
          <p:nvGrpSpPr>
            <p:cNvPr id="122" name="Group 1229"/>
            <p:cNvGrpSpPr/>
            <p:nvPr/>
          </p:nvGrpSpPr>
          <p:grpSpPr>
            <a:xfrm>
              <a:off x="7238880" y="1336680"/>
              <a:ext cx="1854360" cy="1066680"/>
              <a:chOff x="7238880" y="1336680"/>
              <a:chExt cx="1854360" cy="1066680"/>
            </a:xfrm>
          </p:grpSpPr>
          <p:sp>
            <p:nvSpPr>
              <p:cNvPr id="123" name="Oval 1092"/>
              <p:cNvSpPr/>
              <p:nvPr/>
            </p:nvSpPr>
            <p:spPr>
              <a:xfrm>
                <a:off x="7238880" y="1336680"/>
                <a:ext cx="1854360" cy="10666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93"/>
              <p:cNvSpPr/>
              <p:nvPr/>
            </p:nvSpPr>
            <p:spPr>
              <a:xfrm>
                <a:off x="7518600" y="1517400"/>
                <a:ext cx="1265040" cy="65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Technical Standards Committe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197"/>
            <p:cNvGrpSpPr/>
            <p:nvPr/>
          </p:nvGrpSpPr>
          <p:grpSpPr>
            <a:xfrm>
              <a:off x="3098880" y="1523880"/>
              <a:ext cx="1779480" cy="857160"/>
              <a:chOff x="3098880" y="1523880"/>
              <a:chExt cx="1779480" cy="857160"/>
            </a:xfrm>
          </p:grpSpPr>
          <p:sp>
            <p:nvSpPr>
              <p:cNvPr id="126" name="Oval 1116"/>
              <p:cNvSpPr/>
              <p:nvPr/>
            </p:nvSpPr>
            <p:spPr>
              <a:xfrm>
                <a:off x="3098880" y="1523880"/>
                <a:ext cx="1779480" cy="857160"/>
              </a:xfrm>
              <a:prstGeom prst="ellips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118"/>
              <p:cNvSpPr/>
              <p:nvPr/>
            </p:nvSpPr>
            <p:spPr>
              <a:xfrm>
                <a:off x="3351600" y="1828800"/>
                <a:ext cx="137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uppl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239"/>
            <p:cNvGrpSpPr/>
            <p:nvPr/>
          </p:nvGrpSpPr>
          <p:grpSpPr>
            <a:xfrm>
              <a:off x="4987800" y="1519200"/>
              <a:ext cx="2246040" cy="701640"/>
              <a:chOff x="4987800" y="1519200"/>
              <a:chExt cx="2246040" cy="701640"/>
            </a:xfrm>
          </p:grpSpPr>
          <p:grpSp>
            <p:nvGrpSpPr>
              <p:cNvPr id="129" name="Group 1122"/>
              <p:cNvGrpSpPr/>
              <p:nvPr/>
            </p:nvGrpSpPr>
            <p:grpSpPr>
              <a:xfrm>
                <a:off x="4987800" y="1793880"/>
                <a:ext cx="2245680" cy="105840"/>
                <a:chOff x="4987800" y="1793880"/>
                <a:chExt cx="2245680" cy="105840"/>
              </a:xfrm>
            </p:grpSpPr>
            <p:sp>
              <p:nvSpPr>
                <p:cNvPr id="130" name="Line 1120"/>
                <p:cNvSpPr/>
                <p:nvPr/>
              </p:nvSpPr>
              <p:spPr>
                <a:xfrm flipH="1">
                  <a:off x="5090400" y="1840320"/>
                  <a:ext cx="2143080" cy="3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121"/>
                <p:cNvSpPr/>
                <p:nvPr/>
              </p:nvSpPr>
              <p:spPr>
                <a:xfrm>
                  <a:off x="4987800" y="1793880"/>
                  <a:ext cx="120600" cy="10584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56" h="55">
                      <a:moveTo>
                        <a:pt x="56" y="0"/>
                      </a:moveTo>
                      <a:lnTo>
                        <a:pt x="0" y="29"/>
                      </a:lnTo>
                      <a:lnTo>
                        <a:pt x="56" y="55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1125"/>
              <p:cNvGrpSpPr/>
              <p:nvPr/>
            </p:nvGrpSpPr>
            <p:grpSpPr>
              <a:xfrm>
                <a:off x="4987800" y="1915920"/>
                <a:ext cx="2246040" cy="106200"/>
                <a:chOff x="4987800" y="1915920"/>
                <a:chExt cx="2246040" cy="106200"/>
              </a:xfrm>
            </p:grpSpPr>
            <p:sp>
              <p:nvSpPr>
                <p:cNvPr id="133" name="Line 1123"/>
                <p:cNvSpPr/>
                <p:nvPr/>
              </p:nvSpPr>
              <p:spPr>
                <a:xfrm flipH="1">
                  <a:off x="4987800" y="1965960"/>
                  <a:ext cx="21369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124"/>
                <p:cNvSpPr/>
                <p:nvPr/>
              </p:nvSpPr>
              <p:spPr>
                <a:xfrm>
                  <a:off x="7113600" y="1915920"/>
                  <a:ext cx="120240" cy="10620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56" h="55">
                      <a:moveTo>
                        <a:pt x="0" y="55"/>
                      </a:moveTo>
                      <a:lnTo>
                        <a:pt x="56" y="28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1127"/>
              <p:cNvSpPr/>
              <p:nvPr/>
            </p:nvSpPr>
            <p:spPr>
              <a:xfrm>
                <a:off x="5208840" y="1946160"/>
                <a:ext cx="1620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s approv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130"/>
              <p:cNvSpPr/>
              <p:nvPr/>
            </p:nvSpPr>
            <p:spPr>
              <a:xfrm>
                <a:off x="5156280" y="1519200"/>
                <a:ext cx="19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s approv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258"/>
          <p:cNvGrpSpPr/>
          <p:nvPr/>
        </p:nvGrpSpPr>
        <p:grpSpPr>
          <a:xfrm>
            <a:off x="2935440" y="4003560"/>
            <a:ext cx="2768400" cy="2330280"/>
            <a:chOff x="2935440" y="4003560"/>
            <a:chExt cx="2768400" cy="2330280"/>
          </a:xfrm>
        </p:grpSpPr>
        <p:grpSp>
          <p:nvGrpSpPr>
            <p:cNvPr id="138" name="Group 1234"/>
            <p:cNvGrpSpPr/>
            <p:nvPr/>
          </p:nvGrpSpPr>
          <p:grpSpPr>
            <a:xfrm>
              <a:off x="3208320" y="5572080"/>
              <a:ext cx="1757520" cy="761760"/>
              <a:chOff x="3208320" y="5572080"/>
              <a:chExt cx="1757520" cy="761760"/>
            </a:xfrm>
          </p:grpSpPr>
          <p:sp>
            <p:nvSpPr>
              <p:cNvPr id="139" name="Oval 1103"/>
              <p:cNvSpPr/>
              <p:nvPr/>
            </p:nvSpPr>
            <p:spPr>
              <a:xfrm>
                <a:off x="3208320" y="5572080"/>
                <a:ext cx="1757520" cy="761760"/>
              </a:xfrm>
              <a:prstGeom prst="ellipse">
                <a:avLst/>
              </a:prstGeom>
              <a:solidFill>
                <a:srgbClr val="c3d69b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105"/>
              <p:cNvSpPr/>
              <p:nvPr/>
            </p:nvSpPr>
            <p:spPr>
              <a:xfrm>
                <a:off x="3504600" y="5800320"/>
                <a:ext cx="1169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Househo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250"/>
            <p:cNvGrpSpPr/>
            <p:nvPr/>
          </p:nvGrpSpPr>
          <p:grpSpPr>
            <a:xfrm>
              <a:off x="2935440" y="4003560"/>
              <a:ext cx="2768400" cy="1552320"/>
              <a:chOff x="2935440" y="4003560"/>
              <a:chExt cx="2768400" cy="1552320"/>
            </a:xfrm>
          </p:grpSpPr>
          <p:grpSp>
            <p:nvGrpSpPr>
              <p:cNvPr id="142" name="Group 1144"/>
              <p:cNvGrpSpPr/>
              <p:nvPr/>
            </p:nvGrpSpPr>
            <p:grpSpPr>
              <a:xfrm>
                <a:off x="3984480" y="4003560"/>
                <a:ext cx="109440" cy="1552320"/>
                <a:chOff x="3984480" y="4003560"/>
                <a:chExt cx="109440" cy="1552320"/>
              </a:xfrm>
            </p:grpSpPr>
            <p:sp>
              <p:nvSpPr>
                <p:cNvPr id="143" name="Line 1142"/>
                <p:cNvSpPr/>
                <p:nvPr/>
              </p:nvSpPr>
              <p:spPr>
                <a:xfrm>
                  <a:off x="4035960" y="4003560"/>
                  <a:ext cx="2160" cy="144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143"/>
                <p:cNvSpPr/>
                <p:nvPr/>
              </p:nvSpPr>
              <p:spPr>
                <a:xfrm>
                  <a:off x="3984480" y="5436000"/>
                  <a:ext cx="109440" cy="119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53" h="60">
                      <a:moveTo>
                        <a:pt x="0" y="0"/>
                      </a:moveTo>
                      <a:lnTo>
                        <a:pt x="28" y="60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147"/>
              <p:cNvGrpSpPr/>
              <p:nvPr/>
            </p:nvGrpSpPr>
            <p:grpSpPr>
              <a:xfrm>
                <a:off x="4168800" y="4003560"/>
                <a:ext cx="74520" cy="1544400"/>
                <a:chOff x="4168800" y="4003560"/>
                <a:chExt cx="74520" cy="1544400"/>
              </a:xfrm>
            </p:grpSpPr>
            <p:sp>
              <p:nvSpPr>
                <p:cNvPr id="146" name="Line 1145"/>
                <p:cNvSpPr/>
                <p:nvPr/>
              </p:nvSpPr>
              <p:spPr>
                <a:xfrm>
                  <a:off x="4203720" y="4103640"/>
                  <a:ext cx="1440" cy="1444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146"/>
                <p:cNvSpPr/>
                <p:nvPr/>
              </p:nvSpPr>
              <p:spPr>
                <a:xfrm>
                  <a:off x="4168800" y="4003560"/>
                  <a:ext cx="74520" cy="114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53" h="57">
                      <a:moveTo>
                        <a:pt x="53" y="57"/>
                      </a:moveTo>
                      <a:lnTo>
                        <a:pt x="25" y="0"/>
                      </a:lnTo>
                      <a:lnTo>
                        <a:pt x="0" y="57"/>
                      </a:lnTo>
                      <a:lnTo>
                        <a:pt x="53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Rectangle 1151"/>
              <p:cNvSpPr/>
              <p:nvPr/>
            </p:nvSpPr>
            <p:spPr>
              <a:xfrm>
                <a:off x="2935440" y="4592520"/>
                <a:ext cx="102708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lls SHS &amp; provide ser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187"/>
              <p:cNvSpPr/>
              <p:nvPr/>
            </p:nvSpPr>
            <p:spPr>
              <a:xfrm>
                <a:off x="4309920" y="4630680"/>
                <a:ext cx="1393920" cy="65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ay down-payment &amp; installmen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1261"/>
          <p:cNvGrpSpPr/>
          <p:nvPr/>
        </p:nvGrpSpPr>
        <p:grpSpPr>
          <a:xfrm>
            <a:off x="76320" y="3774600"/>
            <a:ext cx="3200400" cy="2514960"/>
            <a:chOff x="76320" y="3774600"/>
            <a:chExt cx="3200400" cy="2514960"/>
          </a:xfrm>
        </p:grpSpPr>
        <p:grpSp>
          <p:nvGrpSpPr>
            <p:cNvPr id="151" name="Group 1235"/>
            <p:cNvGrpSpPr/>
            <p:nvPr/>
          </p:nvGrpSpPr>
          <p:grpSpPr>
            <a:xfrm>
              <a:off x="76320" y="5451480"/>
              <a:ext cx="1839960" cy="838080"/>
              <a:chOff x="76320" y="5451480"/>
              <a:chExt cx="1839960" cy="838080"/>
            </a:xfrm>
          </p:grpSpPr>
          <p:sp>
            <p:nvSpPr>
              <p:cNvPr id="152" name="Oval 1192"/>
              <p:cNvSpPr/>
              <p:nvPr/>
            </p:nvSpPr>
            <p:spPr>
              <a:xfrm>
                <a:off x="76320" y="5451480"/>
                <a:ext cx="1839960" cy="8380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193"/>
              <p:cNvSpPr/>
              <p:nvPr/>
            </p:nvSpPr>
            <p:spPr>
              <a:xfrm>
                <a:off x="237600" y="5580000"/>
                <a:ext cx="14626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Operations Committ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251"/>
            <p:cNvGrpSpPr/>
            <p:nvPr/>
          </p:nvGrpSpPr>
          <p:grpSpPr>
            <a:xfrm>
              <a:off x="716760" y="3774600"/>
              <a:ext cx="2559960" cy="1865520"/>
              <a:chOff x="716760" y="3774600"/>
              <a:chExt cx="2559960" cy="1865520"/>
            </a:xfrm>
          </p:grpSpPr>
          <p:sp>
            <p:nvSpPr>
              <p:cNvPr id="155" name="Rectangle 1174"/>
              <p:cNvSpPr/>
              <p:nvPr/>
            </p:nvSpPr>
            <p:spPr>
              <a:xfrm rot="19467600">
                <a:off x="658800" y="4422600"/>
                <a:ext cx="198756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 operation related solution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9"/>
              <p:cNvSpPr/>
              <p:nvPr/>
            </p:nvSpPr>
            <p:spPr>
              <a:xfrm rot="19440600">
                <a:off x="1141920" y="4849560"/>
                <a:ext cx="20131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s Solution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208"/>
              <p:cNvSpPr/>
              <p:nvPr/>
            </p:nvSpPr>
            <p:spPr>
              <a:xfrm flipV="1">
                <a:off x="1219320" y="3774600"/>
                <a:ext cx="19810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209"/>
              <p:cNvSpPr/>
              <p:nvPr/>
            </p:nvSpPr>
            <p:spPr>
              <a:xfrm flipH="1">
                <a:off x="1295280" y="3851280"/>
                <a:ext cx="198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1256"/>
          <p:cNvGrpSpPr/>
          <p:nvPr/>
        </p:nvGrpSpPr>
        <p:grpSpPr>
          <a:xfrm>
            <a:off x="76320" y="3165480"/>
            <a:ext cx="4878360" cy="1062720"/>
            <a:chOff x="76320" y="3165480"/>
            <a:chExt cx="4878360" cy="1062720"/>
          </a:xfrm>
        </p:grpSpPr>
        <p:grpSp>
          <p:nvGrpSpPr>
            <p:cNvPr id="160" name="Group 1200"/>
            <p:cNvGrpSpPr/>
            <p:nvPr/>
          </p:nvGrpSpPr>
          <p:grpSpPr>
            <a:xfrm>
              <a:off x="3130560" y="3165480"/>
              <a:ext cx="1824120" cy="809640"/>
              <a:chOff x="3130560" y="3165480"/>
              <a:chExt cx="1824120" cy="809640"/>
            </a:xfrm>
          </p:grpSpPr>
          <p:sp>
            <p:nvSpPr>
              <p:cNvPr id="161" name="Oval 1111"/>
              <p:cNvSpPr/>
              <p:nvPr/>
            </p:nvSpPr>
            <p:spPr>
              <a:xfrm>
                <a:off x="3130560" y="3165480"/>
                <a:ext cx="1824120" cy="809640"/>
              </a:xfrm>
              <a:prstGeom prst="ellips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113"/>
              <p:cNvSpPr/>
              <p:nvPr/>
            </p:nvSpPr>
            <p:spPr>
              <a:xfrm>
                <a:off x="3886560" y="34290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254"/>
            <p:cNvGrpSpPr/>
            <p:nvPr/>
          </p:nvGrpSpPr>
          <p:grpSpPr>
            <a:xfrm>
              <a:off x="76320" y="3165480"/>
              <a:ext cx="1738080" cy="914400"/>
              <a:chOff x="76320" y="3165480"/>
              <a:chExt cx="1738080" cy="914400"/>
            </a:xfrm>
          </p:grpSpPr>
          <p:sp>
            <p:nvSpPr>
              <p:cNvPr id="164" name="Oval 1219"/>
              <p:cNvSpPr/>
              <p:nvPr/>
            </p:nvSpPr>
            <p:spPr>
              <a:xfrm>
                <a:off x="76320" y="3165480"/>
                <a:ext cx="1738080" cy="91440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20"/>
              <p:cNvSpPr/>
              <p:nvPr/>
            </p:nvSpPr>
            <p:spPr>
              <a:xfrm>
                <a:off x="204840" y="3405240"/>
                <a:ext cx="151272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O Selection Committ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37"/>
            <p:cNvGrpSpPr/>
            <p:nvPr/>
          </p:nvGrpSpPr>
          <p:grpSpPr>
            <a:xfrm>
              <a:off x="1760400" y="3246480"/>
              <a:ext cx="1338120" cy="981720"/>
              <a:chOff x="1760400" y="3246480"/>
              <a:chExt cx="1338120" cy="981720"/>
            </a:xfrm>
          </p:grpSpPr>
          <p:sp>
            <p:nvSpPr>
              <p:cNvPr id="167" name="Line 1224"/>
              <p:cNvSpPr/>
              <p:nvPr/>
            </p:nvSpPr>
            <p:spPr>
              <a:xfrm flipH="1">
                <a:off x="1813320" y="3546720"/>
                <a:ext cx="128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25"/>
              <p:cNvSpPr/>
              <p:nvPr/>
            </p:nvSpPr>
            <p:spPr>
              <a:xfrm>
                <a:off x="1760400" y="3695760"/>
                <a:ext cx="12848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lect P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26"/>
              <p:cNvSpPr/>
              <p:nvPr/>
            </p:nvSpPr>
            <p:spPr>
              <a:xfrm>
                <a:off x="1813680" y="3699000"/>
                <a:ext cx="128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1227"/>
              <p:cNvSpPr/>
              <p:nvPr/>
            </p:nvSpPr>
            <p:spPr>
              <a:xfrm>
                <a:off x="1900440" y="3246480"/>
                <a:ext cx="11332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Appl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260"/>
          <p:cNvGrpSpPr/>
          <p:nvPr/>
        </p:nvGrpSpPr>
        <p:grpSpPr>
          <a:xfrm>
            <a:off x="7010280" y="4003560"/>
            <a:ext cx="1965600" cy="2286000"/>
            <a:chOff x="7010280" y="4003560"/>
            <a:chExt cx="1965600" cy="2286000"/>
          </a:xfrm>
        </p:grpSpPr>
        <p:grpSp>
          <p:nvGrpSpPr>
            <p:cNvPr id="172" name="Group 1243"/>
            <p:cNvGrpSpPr/>
            <p:nvPr/>
          </p:nvGrpSpPr>
          <p:grpSpPr>
            <a:xfrm>
              <a:off x="7238880" y="5451480"/>
              <a:ext cx="1737000" cy="838080"/>
              <a:chOff x="7238880" y="5451480"/>
              <a:chExt cx="1737000" cy="838080"/>
            </a:xfrm>
          </p:grpSpPr>
          <p:sp>
            <p:nvSpPr>
              <p:cNvPr id="173" name="Oval 1244"/>
              <p:cNvSpPr/>
              <p:nvPr/>
            </p:nvSpPr>
            <p:spPr>
              <a:xfrm>
                <a:off x="7238880" y="5451480"/>
                <a:ext cx="1737000" cy="838080"/>
              </a:xfrm>
              <a:prstGeom prst="ellipse">
                <a:avLst/>
              </a:prstGeom>
              <a:solidFill>
                <a:srgbClr val="d99694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245"/>
              <p:cNvSpPr/>
              <p:nvPr/>
            </p:nvSpPr>
            <p:spPr>
              <a:xfrm>
                <a:off x="7492320" y="5633280"/>
                <a:ext cx="124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IDA and oth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249"/>
            <p:cNvGrpSpPr/>
            <p:nvPr/>
          </p:nvGrpSpPr>
          <p:grpSpPr>
            <a:xfrm>
              <a:off x="7010280" y="4003560"/>
              <a:ext cx="1143000" cy="1371600"/>
              <a:chOff x="7010280" y="4003560"/>
              <a:chExt cx="1143000" cy="1371600"/>
            </a:xfrm>
          </p:grpSpPr>
          <p:sp>
            <p:nvSpPr>
              <p:cNvPr id="176" name="Line 1247"/>
              <p:cNvSpPr/>
              <p:nvPr/>
            </p:nvSpPr>
            <p:spPr>
              <a:xfrm flipV="1">
                <a:off x="8153280" y="400356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48"/>
              <p:cNvSpPr/>
              <p:nvPr/>
            </p:nvSpPr>
            <p:spPr>
              <a:xfrm>
                <a:off x="7010280" y="4114800"/>
                <a:ext cx="1143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Grant &amp; soft term cred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4480" y="759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Ownership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1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Financing Sche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2228-627D-41F0-B43B-83C1C87B13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676520"/>
          <a:ext cx="8534160" cy="3733560"/>
        </p:xfrm>
        <a:graphic>
          <a:graphicData uri="http://schemas.openxmlformats.org/drawingml/2006/table">
            <a:tbl>
              <a:tblPr/>
              <a:tblGrid>
                <a:gridCol w="6507000"/>
                <a:gridCol w="2027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a) Solar Home System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b) Buy-down Grant from IDCOL (for all siz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(c) Cost net of Grant (b-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d) Household Down payment [15% of (c)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(e) Credit to customers (c-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3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Loan Te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2-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Interest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12-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Monthly Installment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f) Refinancing from IDCOL to PO [80% of (e)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83" name="TextBox 5"/>
          <p:cNvSpPr/>
          <p:nvPr/>
        </p:nvSpPr>
        <p:spPr>
          <a:xfrm>
            <a:off x="4495680" y="11430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 in US$ for a 50 Wp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920" y="55818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ize ranges from 10 Wp to 120 Wp with shifting preference for smaller systems (30Wp or 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ces are in the $8-10/Wp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Role of ID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 Selection Committee of IDCOL selects the POs as per eligibility crit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ical standards committee of IDCOL develops technical standards for the equipment (panels, batteries, charge controllers)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pections by IDCOL inspectors before release of funds to P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tline service for customers.  IDCOL does not release payment until customer complaints are addressed by the P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C6E-FDD1-45AB-9897-E121181FA9F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Phased Reduction of Gr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515-C034-409B-B450-4D2E9C4E775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76520"/>
          <a:ext cx="8458200" cy="4389480"/>
        </p:xfrm>
        <a:graphic>
          <a:graphicData uri="http://schemas.openxmlformats.org/drawingml/2006/table">
            <a:tbl>
              <a:tblPr/>
              <a:tblGrid>
                <a:gridCol w="2533680"/>
                <a:gridCol w="990720"/>
                <a:gridCol w="1938240"/>
                <a:gridCol w="2995560"/>
              </a:tblGrid>
              <a:tr h="4078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Amount of Grant Available per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Buy-down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Institutional Development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First 2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Next 2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Next 35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88,16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35,00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235,00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10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Curre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</a:tbl>
          </a:graphicData>
        </a:graphic>
      </p:graphicFrame>
      <p:sp>
        <p:nvSpPr>
          <p:cNvPr id="194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1:45:49Z</dcterms:created>
  <dc:creator>Acer</dc:creator>
  <dc:description/>
  <dc:language>en-US</dc:language>
  <cp:lastModifiedBy>Jie Tang</cp:lastModifiedBy>
  <dcterms:modified xsi:type="dcterms:W3CDTF">2013-05-23T02:05:05Z</dcterms:modified>
  <cp:revision>135</cp:revision>
  <dc:subject/>
  <dc:title>The Lao mining sector</dc:title>
</cp:coreProperties>
</file>